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F4E5-F146-4555-837E-F10D3A8C7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find a real life example of cross road interse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8364-5900-4221-8B6B-C5DE2CBB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give the formula. You can find the formula on the taks formula 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22CA-9147-41B7-9E00-0845AA9E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not understand th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FB44-D1F5-42CC-A207-96DF56A5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point is the girl in the middle. Can you draw another real life examp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2E9C-CFC8-4669-85C2-72DCD0327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this exampl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8F8D-6B76-4AA6-8EC4-4EC3FD61A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D28-83B2-41A6-889B-D72D70B2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6A4-26A6-4730-80B6-A34644B5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EF2-6B85-49FD-B09E-CB594DB4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43B-85B6-4105-9ED1-1125DB9F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48D5-1256-4F2A-8AB3-B63E10DD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7869-0BBB-4524-91CD-4CA057D7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B6A1-E6A5-411B-9ACC-1BA43A05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0CDF-E232-400C-A104-DAB8EF56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35CD-6DB4-4715-838C-66442250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03EA-5E60-48CF-AFBE-F2A5008A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B2A5-AE5B-4480-B83E-EDFF76AE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348-C75B-40D7-85D0-20A75E54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2E7F-F695-4514-8C52-0D218F21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08BF-A3E5-498E-80C4-1DB7FBE4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321E-8B26-4387-BEAE-901AAB74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87B3-EEB2-4F97-B46B-6C1E4D45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EC59-ADB2-4558-821E-A78215BC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2CA-200E-4A64-BF88-5CE86C0E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235-F723-4055-A33B-ADA8FC4D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DA5-2B13-438E-B263-A18C9FFA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295-3609-45A8-9BE3-7A703646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DC5-F243-4DE7-BB27-F65A2BCB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BB7-5F02-4F2F-96CD-63FCDC29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07A-9AD0-4899-B0E4-34492D2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5704-9887-4448-8C9B-56875F48FC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A230-D324-4B8E-B479-9EDB59D561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etry Vocabular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ute Ang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n angle that is has less than 90 degree 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exampl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side of the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2112319327_d59e7368df_t.jpg"/>
          <p:cNvPicPr/>
          <p:nvPr/>
        </p:nvPicPr>
        <p:blipFill>
          <a:blip r:embed="rId1"/>
          <a:stretch/>
        </p:blipFill>
        <p:spPr>
          <a:xfrm>
            <a:off x="4648320" y="2743200"/>
            <a:ext cx="406404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tuse Ang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n angle greater than 90 degrees and less than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3435446236_3b5c019afe_t.jpg"/>
          <p:cNvPicPr/>
          <p:nvPr/>
        </p:nvPicPr>
        <p:blipFill>
          <a:blip r:embed="rId1"/>
          <a:stretch/>
        </p:blipFill>
        <p:spPr>
          <a:xfrm>
            <a:off x="3936960" y="2952720"/>
            <a:ext cx="4826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Is an angle of 90 degre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455947337_7e6f721aba_t.jpg"/>
          <p:cNvPicPr/>
          <p:nvPr/>
        </p:nvPicPr>
        <p:blipFill>
          <a:blip r:embed="rId1"/>
          <a:stretch/>
        </p:blipFill>
        <p:spPr>
          <a:xfrm>
            <a:off x="4419720" y="2514600"/>
            <a:ext cx="42926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 protractor is a device for measuring the angle between two intersecting lin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rotractor"/>
          <p:cNvPicPr/>
          <p:nvPr/>
        </p:nvPicPr>
        <p:blipFill>
          <a:blip r:embed="rId1"/>
          <a:stretch/>
        </p:blipFill>
        <p:spPr>
          <a:xfrm>
            <a:off x="5715000" y="2209680"/>
            <a:ext cx="28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Where two lines cross and meet at a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ntersection"/>
          <p:cNvPicPr/>
          <p:nvPr/>
        </p:nvPicPr>
        <p:blipFill>
          <a:blip r:embed="rId1"/>
          <a:stretch/>
        </p:blipFill>
        <p:spPr>
          <a:xfrm>
            <a:off x="5562720" y="1676520"/>
            <a:ext cx="306216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ythagorean Theor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theorem that the sum of the squares of the lengths of the sides of a right triangle is equal to the square of the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2408623800_850bb22fdf_t.jpg"/>
          <p:cNvPicPr/>
          <p:nvPr/>
        </p:nvPicPr>
        <p:blipFill>
          <a:blip r:embed="rId1"/>
          <a:stretch/>
        </p:blipFill>
        <p:spPr>
          <a:xfrm>
            <a:off x="5943600" y="3276720"/>
            <a:ext cx="2077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Lines that do not touch across from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parallel"/>
          <p:cNvPicPr/>
          <p:nvPr/>
        </p:nvPicPr>
        <p:blipFill>
          <a:blip r:embed="rId1"/>
          <a:stretch/>
        </p:blipFill>
        <p:spPr>
          <a:xfrm>
            <a:off x="4419720" y="1752480"/>
            <a:ext cx="4724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Is a flat surface has length and width that can be extended, but has no thic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3857530629_52fc1cb0fa_t.jpg"/>
          <p:cNvPicPr/>
          <p:nvPr/>
        </p:nvPicPr>
        <p:blipFill>
          <a:blip r:embed="rId1"/>
          <a:stretch/>
        </p:blipFill>
        <p:spPr>
          <a:xfrm>
            <a:off x="3936960" y="3003480"/>
            <a:ext cx="416088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ollection of points, part of            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 line, no length, has one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nd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302557834_0b06419b37_t.jpg"/>
          <p:cNvPicPr/>
          <p:nvPr/>
        </p:nvPicPr>
        <p:blipFill>
          <a:blip r:embed="rId1"/>
          <a:stretch/>
        </p:blipFill>
        <p:spPr>
          <a:xfrm>
            <a:off x="533520" y="1828800"/>
            <a:ext cx="23875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ke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Lines that do not intersect are not parall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examples are the dots on the man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ontent Placeholder 7" descr="2360203739_499e66d051_t.jpg"/>
          <p:cNvPicPr/>
          <p:nvPr/>
        </p:nvPicPr>
        <p:blipFill>
          <a:blip r:embed="rId1"/>
          <a:stretch/>
        </p:blipFill>
        <p:spPr>
          <a:xfrm>
            <a:off x="4800600" y="2666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llection of points, no length, no endpoints, can be named using smal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example is the line of marching band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9" descr="3476003863_21564768be_t.jpg"/>
          <p:cNvPicPr/>
          <p:nvPr/>
        </p:nvPicPr>
        <p:blipFill>
          <a:blip r:embed="rId1"/>
          <a:stretch/>
        </p:blipFill>
        <p:spPr>
          <a:xfrm>
            <a:off x="5105520" y="2286000"/>
            <a:ext cx="3306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oints on the sam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examples are the lights all in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5" descr="59880929_0ffe721ad0_t.jpg"/>
          <p:cNvPicPr/>
          <p:nvPr/>
        </p:nvPicPr>
        <p:blipFill>
          <a:blip r:embed="rId1"/>
          <a:stretch/>
        </p:blipFill>
        <p:spPr>
          <a:xfrm>
            <a:off x="4952880" y="2514600"/>
            <a:ext cx="37972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Represented by a dot, shows location has no size, has no endpoint, names using big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images.jpg"/>
          <p:cNvPicPr/>
          <p:nvPr/>
        </p:nvPicPr>
        <p:blipFill>
          <a:blip r:embed="rId1"/>
          <a:stretch/>
        </p:blipFill>
        <p:spPr>
          <a:xfrm>
            <a:off x="4952880" y="2819520"/>
            <a:ext cx="30434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dpoi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 point that divides the segment into two congruent se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example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girl on the end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2959673193_323d31f2cb_t.jpg"/>
          <p:cNvPicPr/>
          <p:nvPr/>
        </p:nvPicPr>
        <p:blipFill>
          <a:blip r:embed="rId1"/>
          <a:stretch/>
        </p:blipFill>
        <p:spPr>
          <a:xfrm>
            <a:off x="4572000" y="2743200"/>
            <a:ext cx="4057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grue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ll same shape, same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ongruent"/>
          <p:cNvPicPr/>
          <p:nvPr/>
        </p:nvPicPr>
        <p:blipFill>
          <a:blip r:embed="rId1"/>
          <a:stretch/>
        </p:blipFill>
        <p:spPr>
          <a:xfrm>
            <a:off x="2895480" y="3124080"/>
            <a:ext cx="56102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0:49:07Z</dcterms:created>
  <dc:creator>administrator</dc:creator>
  <dc:description/>
  <dc:language>en-US</dc:language>
  <cp:lastModifiedBy>Goddess</cp:lastModifiedBy>
  <dcterms:modified xsi:type="dcterms:W3CDTF">2010-09-07T01:23:03Z</dcterms:modified>
  <cp:revision>23</cp:revision>
  <dc:subject/>
  <dc:title>Geometry Vocabulary Project</dc:title>
</cp:coreProperties>
</file>